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3.wmf" ContentType="image/x-wmf"/>
  <Override PartName="/ppt/media/image9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第六章 休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806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休克主要死因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F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道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ess ulce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56080" y="31284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内脏器官的继发损伤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7777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病程演变过程分三期：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克前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克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克晚期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1311480" cy="13255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411280" y="40464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三、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7491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紧张、烦躁不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色苍白、四肢湿冷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脉搏增快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&lt;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、呼吸增快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变化不大，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脉压缩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&lt;30mmHg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正常或减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40000" y="54936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休克前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情淡漠、反应迟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发绀或花斑、四肢冰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脉搏细速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1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呼吸浅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进行性下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减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静脉萎陷、毛细血管充盈时间延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谢性酸中毒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40464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２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休克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模糊或昏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明显发绀，甚至出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瘀点、瘀斑，四肢厥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脉搏微弱、血压测不出、呼吸微弱或不规则、体温不升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尿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鼻腔、牙龈、内脏出血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尤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DS</a:t>
            </a: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40000" y="476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休克晚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155736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早去除病因，尽快恢复有效循环血量，纠正微循环障碍，恢复 组织灌注，增强心肌功能，恢复正常代谢和防止多器官功能障碍综合征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677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40000" y="260280"/>
            <a:ext cx="401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楷体_GB2312"/>
              </a:rPr>
              <a:t>四、处理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8360" y="260280"/>
            <a:ext cx="835344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救</a:t>
            </a:r>
            <a:br>
              <a:rPr sz="32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理原发伤、病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伤处包扎、固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动和控制大出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要时使用休克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保持呼吸道通畅并给氧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要时气管插管或气管切开， 给予呼吸机人工呼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采取休克体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仰卧中凹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他措施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暖、骨折处制动和固定、必要时应用止痛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658280" y="5300640"/>
            <a:ext cx="14857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4114800" cy="3825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672000" cy="3502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2737080" cy="1781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332000" y="50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抗休克裤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9640" y="1557360"/>
            <a:ext cx="835344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补充血容量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基本和首要的措施，及时、快速、足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晶体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平衡盐液、生理盐水最佳）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后胶体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低分子右旋糖苷、全血、血浆等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积极处理原发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尽快恢复有效血容量后，及时手术处理原发病变。</a:t>
            </a:r>
            <a:br>
              <a:rPr sz="2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2240" y="360216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2060640"/>
            <a:ext cx="8305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纠正酸碱平衡失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补充血容量，改善组织灌注，适时和适量给予碱性药物休克早期轻度酸中毒无需使用缓冲剂，经及时扩容即可得以纠正明显酸中毒，经扩容治疗不能纠正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当予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纠正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纳休克病人的护理评估、护理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记休克的分类和病理生理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休克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不同类型休克的病因和治疗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用血管活性药物</a:t>
            </a:r>
            <a:br>
              <a:rPr sz="32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管收缩药：限用于严重低血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&lt;50mmHg)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、低浓度、短效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管扩张药：加重低血压，须先补足血容量、纠正酸中毒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 心 药：血容量补足，而动脉压仍低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VP&gt;15cm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用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临床常联合应用缩血管和扩血管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50920" y="4941720"/>
            <a:ext cx="1447560" cy="10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血管活性药物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▼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容量补足情况下方可使用扩血管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▼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时从低浓度、慢滴速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▼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过程中监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，及时调整输液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▼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防药物外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▼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稳后，停药前应逐渐减速、减量或降低浓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.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改善微循环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、中期（凝血阶段）：肝素抗凝治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期（纤溶激活阶段）：抗纤溶药物治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240" y="360216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198520"/>
            <a:ext cx="8305560" cy="50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.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控制感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早处理原发感染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抗菌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.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用皮质类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用于严重休克和感染性休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剂量、短时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克是临床比较常见的危重症，常危及患者的生命，治疗和护理的关键在于早期识别，为后续的治疗和护理赢得宝贵的时间，减少死亡率，提高抢救成功率及生活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休克的分类；休克的病理生理改变；休克的救治；休克的病情评估；休克的护理评估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克的早期识别直接关系到患者的预后和转归，因此，要求救护人员要有扎实的理论知识、综合的分析能力、娴熟的急救技能和高度的责任心，使休克患者及时得到高质量的救护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   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411280" y="26028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24000" y="1413000"/>
            <a:ext cx="8496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车祸致左大腿撕裂伤，腹痛，急诊入院。查体：血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/55mmHg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面色苍白，表情淡漠，意识清楚，全身多处软组织挫伤，左腹股沟处简单包扎，并有大量渗血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超示：脾破裂，腹腔积血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933720"/>
            <a:ext cx="7235640" cy="23050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可能出现什么情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作为责任护士应如何救护患者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87280" y="1484280"/>
            <a:ext cx="7490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休克（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ock)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机体受到强烈的致病因素侵袭后，导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效循环血量锐减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血液灌流不足所引起的以微循环障碍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谢障碍和细胞受损为特征的病理性症候群，是严重的全身应激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4581360"/>
            <a:ext cx="8604000" cy="2108520"/>
          </a:xfrm>
          <a:prstGeom prst="wedgeRectCallout">
            <a:avLst>
              <a:gd name="adj1" fmla="val -20222"/>
              <a:gd name="adj2" fmla="val -26731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指单位时间内通过心血管系统进行循环的血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包括贮存于肝、脾的淋巴血窦中或停留于毛细血管中的血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有效循环血量依赖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足的血容量、有效的心搏出量和完善的周围血管张力三个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476000" y="1341360"/>
            <a:ext cx="64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机体维持足够血液灌流的三大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足的血容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效的心排出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良好的周围血管张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47640" y="40464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一、病因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28195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低血容量性休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581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性休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4267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心源性休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48769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源性休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56720" y="5562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过敏性休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7280" y="2781360"/>
            <a:ext cx="217440" cy="792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5800" y="2637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失血性休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3141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创伤性休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2997360"/>
            <a:ext cx="287280" cy="30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77080" y="29973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科常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164360" y="5084640"/>
            <a:ext cx="1217520" cy="1078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38080" y="15922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按休克的原因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88000" y="2708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2120" y="8380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534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共同病理生理基础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效循环血容量锐减和组织灌注不足，以及由此引起的微循环障碍、代谢改变及继发性损害。 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微循环障碍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循环收缩期（缺血缺氧期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循环扩张期（淤血缺氧期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循环衰竭期（弥散性血管内凝血期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247680"/>
            <a:ext cx="224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二、病 理 生 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476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代谢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2637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2924280"/>
            <a:ext cx="647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484280"/>
            <a:ext cx="7561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液改变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儿茶酚胺释放↑        胰高血糖素↑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胰岛素↓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血糖升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上腺醛固酮分泌↑   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脑垂体后叶抗利尿激素分泌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水钠潴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5157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371628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乏氧代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丙酮酸乳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↑                              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谢性酸中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灌流不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乳酸清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成</a:t>
            </a:r>
            <a:r>
              <a:rPr b="1" lang="zh-CN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膜钠泵失灵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水肿、高钾血症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膜、线粒体膜、溶酶体膜损伤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死亡、 细胞自溶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肽系统激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肌抑制因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260280"/>
            <a:ext cx="25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谢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2637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6720" y="3284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328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16360" y="60213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458136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1773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335772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45813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80000" y="4797360"/>
            <a:ext cx="7920" cy="56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050560" y="5300640"/>
            <a:ext cx="17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5300640"/>
            <a:ext cx="0" cy="3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2000" y="1557360"/>
            <a:ext cx="576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2000" y="2133720"/>
            <a:ext cx="57600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0:32Z</dcterms:modified>
  <cp:revision>924</cp:revision>
  <dc:subject/>
  <dc:title>Reading Fun</dc:title>
</cp:coreProperties>
</file>